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250-E4CD-4739-84DE-AF5356AF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D16-EA69-4264-92D2-F2DCB665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E5B-83E3-425B-82B9-4D2CF657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5C5-176A-49A2-8BD4-B88AA2E4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5980-8CB6-4312-9F33-44F86344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8C75-1114-4FE5-964A-2C4ADDBA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8495-34DA-4AD4-9897-FFA9DDF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DDCE-2B86-4DA7-A317-C0F7E92B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1E0F-9728-4BFA-A6B5-E0852ED8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8384-B3CC-4ED3-A7C1-ADCC4F22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1634-87B7-4D54-9A85-338F147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176-980F-4668-8A85-59798AA6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2D32-2DA0-4CEE-9B1A-70D97DE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DB7B-8FA0-4525-B166-8F5375C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CF87-ACBE-4DE4-A92A-5EEDEB43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ED68-7CD6-4DDA-93C6-15CFFE89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3972-9BB7-4E51-B455-D3F8317D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85C-0668-46D1-9B68-ECC77B63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EB1-5DE2-4443-B60D-242F73F7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026-C5E3-4C63-B0ED-BECB637A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364-505F-4A33-BD15-FB29D70A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5E3-4F85-4B4F-84D1-FC0DFE3D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B51-10D9-4847-AF28-0C86311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8D7-C91B-4393-8715-8820DF5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EBDE-181C-4941-9F26-B784A32BA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3C1-432A-474E-AF3A-3EA421B0F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ass Gastropod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va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33920" y="3352680"/>
            <a:ext cx="51051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t and Snails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ails los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ir bodies through the diffusion of water,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sm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en salt is poured on their body.  Water leave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dy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snail to balance the salt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52920" y="25718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 Gastropo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ropo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largest and most diverse group of mollus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70,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gastropod species are still currently found on earth today. 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, 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ssil species have been discov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071880" cy="2311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 Gastropo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Gastropoda includ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nai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mp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lu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, whelks, conchs, periwinkles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a slu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ea hares, and sea butterf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097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stropod Hom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pods li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quat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restr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s.  Gastropods that live on land have adapted an area in their mantle into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u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at they can breathe out of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17960" y="2359080"/>
            <a:ext cx="3927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ival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960" y="1294920"/>
            <a:ext cx="3927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val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means that they have one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ll is mad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iece and may be coiled or uncoil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pe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center of the shell is the oldest part of the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s on the shell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r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Whorls may curl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igh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f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ing o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t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up of the gastro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stropod Bodies and Tor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92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re primari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lateral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metrica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the middle part of their body is asymmetrical becaus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r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is a process that twists the mantle cav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8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s relative to the head and foo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re the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llus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undergo tor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17960" y="2151000"/>
            <a:ext cx="39974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stropod Defen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defend themselves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imary way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ir shel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ir muc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lso have symbiotic relationships with some Cnidarians.  In some cases, the gastropod can control the Cnidarian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inging tenta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defend against pred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22280" y="1905120"/>
            <a:ext cx="295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Gastropod Di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re primari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raz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They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sumers in their ecosystem because they feed on plants.  They use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u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is a combination of a tongue and teeth,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scra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78480" y="1905120"/>
            <a:ext cx="2805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sky Little Pes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pods ar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arden p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y often eat landscaping plants and their population can be hard to control through conventional pestic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98600" y="1905120"/>
            <a:ext cx="2805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47:25Z</dcterms:created>
  <dc:creator>kmcgrady</dc:creator>
  <dc:description/>
  <dc:language>en-US</dc:language>
  <cp:lastModifiedBy>kmcgrady</cp:lastModifiedBy>
  <dcterms:modified xsi:type="dcterms:W3CDTF">2011-02-23T17:31:54Z</dcterms:modified>
  <cp:revision>2</cp:revision>
  <dc:subject/>
  <dc:title>Class Gastropoda</dc:title>
</cp:coreProperties>
</file>